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  <p:custShowLst>
    <p:custShow name="(1.1)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899E-1CF3-4B3B-BCDB-28F3766B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AD6-F705-418D-B578-392ACFF4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4A22-ACB9-4D6E-BCD4-0FE83CA7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100-799F-4262-89D0-93F44A00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C1C3-C1B7-4E2B-A9E1-C5AAE7A9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0522-CB68-4F23-81D7-14495D97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E78C-EB45-4EAA-BE71-B9D6A5F4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4175-8FDE-4230-A913-5FFE4876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6672-D939-4782-9684-6E62A09E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0A6A-CC36-4067-939C-36B48D65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9C95-5DE5-4311-A0D6-F9D89937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F422-9386-482A-9C24-C37B7282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2F39-4CB1-4392-ADB0-DD75AA5F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B517-2107-4159-A6D8-A7AE2F13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70A4-43C4-4295-9F72-C601DF52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FE28-C9EE-4D48-8A57-83401DB3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4E9C-FC08-44FD-B049-752658F2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74A1A-BC5D-42FF-A181-05367E40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56122-E993-4253-88E3-0239672B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299D4-98BB-4674-9F09-78811E60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BA101-377B-46A5-ADF0-CD0308C8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93AB7-B36B-47B0-A9FD-65A06DCB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56E0-8116-4373-B5EB-3FC3EF58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8DA3C-D3B4-475E-AAC3-9525DC55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2AA11-8AFF-4C57-962D-03BD0ED1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96EA1-252D-46A5-9539-20BA9C46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E85FB-6C1C-4F50-AFAE-D5B6CCCF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44040-33D7-407C-8CF8-377B1004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8B30C-6830-4753-9853-05BD4FC7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044F8-31FE-4264-BF28-44BDF4A3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700C-CD53-42C3-9B35-6C378E46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50D6-BA40-4FE6-9855-2120CB6F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B53-1A19-4825-A33B-58F07A47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B89-9BED-4343-BD66-3A9B741A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AE7-4644-43F5-97AC-18502388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0AA-FDC9-4BEB-9428-BC1DC3E2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C7C1-8449-4423-9F79-AA7FF3FD6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192A-C0E7-43C2-BA73-D801CDF856C2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F247-F665-467C-BBEB-6EC7C372F360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4.xml"/><Relationship Id="rId10" Type="http://schemas.openxmlformats.org/officeDocument/2006/relationships/slide" Target="slide18.xml"/><Relationship Id="rId11" Type="http://schemas.openxmlformats.org/officeDocument/2006/relationships/slide" Target="slide3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9.xml"/><Relationship Id="rId17" Type="http://schemas.openxmlformats.org/officeDocument/2006/relationships/slide" Target="slide17.xml"/><Relationship Id="rId18" Type="http://schemas.openxmlformats.org/officeDocument/2006/relationships/slide" Target="slide8.xml"/><Relationship Id="rId19" Type="http://schemas.openxmlformats.org/officeDocument/2006/relationships/slide" Target="slide7.xml"/><Relationship Id="rId20" Type="http://schemas.openxmlformats.org/officeDocument/2006/relationships/slide" Target="slide6.xml"/><Relationship Id="rId21" Type="http://schemas.openxmlformats.org/officeDocument/2006/relationships/slide" Target="slide19.xml"/><Relationship Id="rId22" Type="http://schemas.openxmlformats.org/officeDocument/2006/relationships/slide" Target="slide19.xml"/><Relationship Id="rId23" Type="http://schemas.openxmlformats.org/officeDocument/2006/relationships/slide" Target="slide20.xml"/><Relationship Id="rId24" Type="http://schemas.openxmlformats.org/officeDocument/2006/relationships/slide" Target="slide21.xml"/><Relationship Id="rId25" Type="http://schemas.openxmlformats.org/officeDocument/2006/relationships/slide" Target="slide22.xml"/><Relationship Id="rId26" Type="http://schemas.openxmlformats.org/officeDocument/2006/relationships/slide" Target="slide3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Jad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exact place on the earth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rf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r latitude and longitu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bsolute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16002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oser you are to the equator the warme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, even if your latitude is degrees nor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the equator affect temper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uthwester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emisphere does Africa NOT TOU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p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is 3pm in New York what time is it in Californ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you are in relation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el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relative lo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8288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titude - 35N to 44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ngitude - 73 W to 65 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80880"/>
            <a:ext cx="914400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latitude and longitude of NY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1371600"/>
            <a:ext cx="7162920" cy="4038480"/>
          </a:xfrm>
          <a:prstGeom prst="wedgeRectCallout">
            <a:avLst>
              <a:gd name="adj1" fmla="val -21231"/>
              <a:gd name="adj2" fmla="val 361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Equator and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ime Merid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304920"/>
            <a:ext cx="71625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wo imaginary lines divide the earth into its hemisphe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p Key - Explain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ymbols on a map me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p Scale - Explains how f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art things would be in real l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erses what they loo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ke on a ma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map key?  What is a map sca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humans have changed 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nged for the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viron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Human and Environmental Intera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3716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solute location is your ex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cation (lat. And long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ative location is where you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relation to something els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I live 5 min from EM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22860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difference between absolute and relative lo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5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6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8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9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0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0"/>
            <a:ext cx="19810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itude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g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152280"/>
            <a:ext cx="2057400" cy="703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inents and Hemisphe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152280"/>
            <a:ext cx="20574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s and Time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228600"/>
            <a:ext cx="175284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1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2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4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15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6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7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21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2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23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24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5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acific, Atlantic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ctic, and Indian Oce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all of the Earth’s Oc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2133720"/>
            <a:ext cx="7162920" cy="3657600"/>
          </a:xfrm>
          <a:prstGeom prst="wedgeRectCallout">
            <a:avLst>
              <a:gd name="adj1" fmla="val -21231"/>
              <a:gd name="adj2" fmla="val 2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 am in Oreg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:30 am in Ma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304920"/>
            <a:ext cx="7086600" cy="1557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is 2 am in Texas and I called my friend Suzie in Oregon what time would it be there?  If Suzie then called her friend in Maine a half hour later, what time would it b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area with comm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racteristic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umans can change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e region to another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gions ARE NOT perman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92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Region.  Are regions perman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53920" y="762120"/>
            <a:ext cx="62265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INAL JEOPARDY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EAMS MAKE YOU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INAL WAG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R TOPIC - Map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596240" y="1981080"/>
            <a:ext cx="61214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a Physical M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a Political M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titude is FAT and can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asured in degrees N or 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Latitud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rth America, South 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ia, Europe, Africa, Antarctica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ustral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names of the contin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371600"/>
            <a:ext cx="7162560" cy="4038480"/>
          </a:xfrm>
          <a:prstGeom prst="wedgeRectCallout">
            <a:avLst>
              <a:gd name="adj1" fmla="val -21231"/>
              <a:gd name="adj2" fmla="val -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mp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304920"/>
            <a:ext cx="8381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four necessary parts of a ma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14479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ople in one place mak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tact with people from 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de or communication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s of move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ngitude is LONG and can b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asured in degrees E or W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3808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Longitu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Northwestern hemisp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emisphere is North America located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1447920"/>
            <a:ext cx="7162920" cy="4038480"/>
          </a:xfrm>
          <a:prstGeom prst="wedgeRectCallout">
            <a:avLst>
              <a:gd name="adj1" fmla="val -21231"/>
              <a:gd name="adj2" fmla="val 17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time zones exist in the wor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CCPS</cp:lastModifiedBy>
  <cp:lastPrinted>2001-01-31T16:21:13Z</cp:lastPrinted>
  <dcterms:modified xsi:type="dcterms:W3CDTF">2009-09-11T14:56:47Z</dcterms:modified>
  <cp:revision>69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